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B08-F8A2-4D83-9426-2C90843B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D74-01A1-44DE-81B5-516D85D1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60A4-BFAD-4930-9D12-10B63747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E1F-CF31-4B2D-B1AD-923B7136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DD5-B9DD-452E-BD1A-1926C517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BA5-064C-4BD1-B0DF-0D052285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72B-5AB1-4AB2-B8A9-2C4F9CCB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0F16-6BEB-4891-8EE1-D15BF7D8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AA58-F7FF-48C0-B71C-C1BEEF7F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D22-091B-4552-9090-9F0A7EE9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9BE-BC06-41CF-9612-990DBAA6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5F2A-E4F6-46A0-A1F2-5B7E7BF6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B70C-485E-4B8D-B0A2-351A5C69B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452901UfUnyYzNnC_ph" descr=""/>
          <p:cNvPicPr/>
          <p:nvPr/>
        </p:nvPicPr>
        <p:blipFill>
          <a:blip r:embed="rId1"/>
          <a:stretch/>
        </p:blipFill>
        <p:spPr>
          <a:xfrm>
            <a:off x="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0120" y="1295280"/>
            <a:ext cx="152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مبارك مبارك مبارك الآتي باسم الرب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454551qvfwqABpHO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57600" y="4572000"/>
            <a:ext cx="5257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صوتُ منادٍ في البر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دّوا طريقَ الرب واجعلوا سبُله قويم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ad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5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64832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كل وادٍ يُردَم وكل جبلٍ وتلٍّ يُخف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الطرقُ المنعرِجةَ تُقَوَّم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وعرةُ تُسَهّل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2711164FoZXzA_ph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72200" y="1295280"/>
            <a:ext cx="266688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وبو وآمنوا بالبشار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لا أثمروا ثمراً جديرا  بالتوب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937181zlJvZVnxXi_ph" descr=""/>
          <p:cNvPicPr/>
          <p:nvPr/>
        </p:nvPicPr>
        <p:blipFill>
          <a:blip r:embed="rId1"/>
          <a:stretch/>
        </p:blipFill>
        <p:spPr>
          <a:xfrm>
            <a:off x="0" y="0"/>
            <a:ext cx="5924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19920" y="304920"/>
            <a:ext cx="274320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وكلُّ بشرٍ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يرى الخلاص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الآتي م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 لَدُنِ الل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31654765BKdtyzpTbD_ph" descr=""/>
          <p:cNvPicPr/>
          <p:nvPr/>
        </p:nvPicPr>
        <p:blipFill>
          <a:blip r:embed="rId1"/>
          <a:stretch/>
        </p:blipFill>
        <p:spPr>
          <a:xfrm>
            <a:off x="-63360" y="0"/>
            <a:ext cx="61689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380880"/>
            <a:ext cx="2971800" cy="73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rabic Transparent"/>
              </a:rPr>
              <a:t>من كان لديه ثوبان فليقسمهم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rabic Transparent"/>
              </a:rPr>
              <a:t>بينه وبين من لا ثوبَ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ومن كان لديه طعام فليعمل كذل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09:59:45Z</dcterms:created>
  <dc:creator>SUZANNE.MD</dc:creator>
  <dc:description/>
  <dc:language>en-US</dc:language>
  <cp:lastModifiedBy>SUZANNE.MD</cp:lastModifiedBy>
  <dcterms:modified xsi:type="dcterms:W3CDTF">2002-12-09T06:37:33Z</dcterms:modified>
  <cp:revision>3</cp:revision>
  <dc:subject/>
  <dc:title>PowerPoint Presentation</dc:title>
</cp:coreProperties>
</file>